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E266F-9872-4AB6-82E4-DB96554C5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73B2B-034F-4969-9A46-E988DE6544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6C976-DFB3-477F-9F84-37301B8FB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D9E81-22F3-48A2-8FA4-49E3C62ABA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6C3A8-D87A-4F87-9BD5-F3F6AA9DAC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B2A4D-7094-4E95-8FEA-49E7EDB74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4AABD-BF53-49CB-9F09-0D87E8B81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C6731-D0C1-4678-AB0A-07AE13B48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0E1F-B332-4CBA-8688-843D279C8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888B-250E-49F3-8602-5EC750814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A0651-ACCC-41B5-9B73-5D3F78792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5B50-DDC0-4A6D-84BB-C1144A975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4191120"/>
            <a:ext cx="1392120" cy="2367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6248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09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0A7C-2B52-4F8F-BF45-726331E2B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6720" y="685440"/>
            <a:ext cx="4496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267080" cy="57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cohs.ca/youngworkers/" TargetMode="External"/><Relationship Id="rId2" Type="http://schemas.openxmlformats.org/officeDocument/2006/relationships/hyperlink" Target="http://www.youngworkerquilt.ca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67080" y="685440"/>
            <a:ext cx="46483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afety in the Workpla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419720" y="4419720"/>
            <a:ext cx="4419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ce Courses – LH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fety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a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olog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iological agent is anything living that can cause illness or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, moulds, mildew, fungus, vir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hazards involving food, food prep, animals (bites), plants (poison), sewage, san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perly stored medical w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81FF8-0F3B-4BB2-9144-AE55BCA634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a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rgonomic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gonomics is defined as fitting the task to the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a significant impact on well-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lighting, workstation layout, shift work, physical demand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6272-7322-4107-91F2-2055B2ABC3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cohs.ca/youngworkers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nd answer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2-3 important statistics identifying the risks of young Canadian wo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one of the jobs listed on the side panel and outline what you have done or would possibly do and outline the Health and Safety Hazards in point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ngworkerquilt.ca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nd read a number of workplace accidents that involved people your age.  In a paragraph or two reflect on the following:  Were there any similarities between accidents, similar causes, how were they personally affected by their accident, can we learn anything from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FA4F6-2935-4343-B071-FB01A678A4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i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workplace ONLY investigates serious accidents, workers and employers are not getting a clear picture of their workplace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of NEAR MISSES can show where the workplace needs improve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53B2-918B-478D-B4EF-48AD8FA97F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id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600 incidents, there are 30 property damage accidents, 10 minor injuries and 1 serious or major ac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86BB-BB35-417E-B717-53AA7DA703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Accidents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facto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control: Not trained to use the table saw properly and regularly reach over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causes:  Saw was being used without a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causes:  Employee loses balance while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ident/Accident:  Employee’s hand comes in contact with the bl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:  Employee loses fingers as a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2B47-BB9B-447A-A8B0-A173492357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Effects of Acci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eople do not realize that a workplace injury effects a person’s quality of lif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life, recreational activities and financial comfort can all be negatively impacted by in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esteem/depression may res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den damages and costs (medical, legal, wages, overtime,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4BBA0-9652-4E0F-9756-8F492A6CB4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LL Have Right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 MATTER WHAT JOB RESPONSIBILITIES A WORKER MAY HAVE, ALL WORKERS HAVE THE FOLLOWING 3 FUNDAMENTAL RIGH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to Know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receive training needed to do the job properly, workplace hazards, safe work procedures, and emergenc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to Particip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n JHSC (Joint Health and Safety Committee) – workplaces over 20 employ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ght to Refuse Dangerous 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if you believe your workplace is dangerous to yourself or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2CA72-21F8-4D40-8CBC-24C42EF14D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sing Dangerou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orkers are unsure about their safety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, be sure to follow these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concern to supervisor (if solved, then retu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matter to the JHSC (if still not resolved…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 WHSCC and explain the situation.  Return when the situation is no longer dange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In all cases, stay at work until your shift is finish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75136-65A9-4045-83DA-848FC7315B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a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s (cleaning products, paints, ac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pours and f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es (oxygen, propane, 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, combustible, and explosive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hazards that can enter the body through inhalation, ingestion, absorption, or inj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F07D1-08DC-4F10-9CC9-D9EAD60D56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Haz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hinery (exposure to moving pa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 (hot/co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ee 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094B-A38F-4D3E-9583-A1A42788BC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4T14:10:40Z</dcterms:created>
  <dc:creator>nbdoe</dc:creator>
  <dc:description/>
  <dc:language>en-US</dc:language>
  <cp:lastModifiedBy>nbdoe</cp:lastModifiedBy>
  <dcterms:modified xsi:type="dcterms:W3CDTF">2008-01-30T19:50:15Z</dcterms:modified>
  <cp:revision>5</cp:revision>
  <dc:subject/>
  <dc:title>Safety in the Workplace</dc:title>
</cp:coreProperties>
</file>